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50A-8A93-4BAB-B0A4-5ABDD706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2FA-7DB8-4AE7-9BF2-BDFA4E6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CF0-40AB-4C2B-B962-2E601AF1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13A-96C2-4244-9596-9ACA3A67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DDFC-C96B-4318-921F-48B85107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02AF-3B22-4AAF-84DE-48A90673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C6FC-C2BD-4A2D-9483-01E3B568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DA86-3B14-4052-B80D-8CB33AD5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443C-A05B-45C3-B1FC-95D569BF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5C32-AA80-41F7-9F55-865CCD31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FED6-5975-4DAA-8882-50A0C94E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629-0162-47A4-BFB4-B662687C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6F37-122D-4C58-A621-BABA1B17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F00F-8222-4B30-AB2C-35E760A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4BA4-BBBB-4779-94F4-8D61CC6D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F38F-A280-4C07-8A81-350A88D3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E243-1DC8-4825-9643-B2416D2D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F299-481B-45A1-A101-438A097A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1C7A2-6816-456A-A427-D08C2D7E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7414-23C8-4AB4-97F5-F4DED095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C0DE-DF87-4552-A046-9F694F17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0369-D70B-4759-A7BA-9182BEFF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6B1-29C4-4C20-B092-84BF070A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BA288-CE23-4FF3-9B30-D1E41857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EA3B-6333-4325-BC41-D7C52DC0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4D5F-8A0E-42CA-B935-6DDEB9C9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79F4-085E-4EC6-B019-2F7D43C9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320E-E846-4AFC-98B7-F746FE5F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B99B-9E7F-426F-8879-B5183EC1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35E3F-5F7A-490F-A079-BBB6709A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9FE9-96D0-4A66-8AC7-D7D69493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50FC-E5E0-4F08-9E37-B16F8A2D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00D7-4B61-4653-B574-8870BADC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390-CDFD-44B6-A5CB-D0A4B67E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531F-27EB-4929-9EF7-71B56467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0AA0-3D5B-4C36-BA78-92498EE5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9DA6-42E8-43FB-B386-2979E33C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BAA38-1A75-4562-B906-D6BA185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1611B-F833-4958-BD20-3219CFC5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4D5B-A8F9-49D0-A70D-3BDD78CF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A2E6-93B7-43EB-8815-9E734DFA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4670-9E0E-4CC7-9034-34BC5BF7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4505-0E1C-42CB-9322-DF77015B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00661-54D7-4660-8958-4CD1B246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215-7DFD-49FA-8EC0-4A7ADE3B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7E7A9-D219-4173-A149-9E7B5B66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110B0-3338-4644-96D7-EE5FC9EB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C81E4-7C10-4DF6-B6B3-42CF94B8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EB72-A5E4-4F3E-9246-7A52CDCE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7514-0C9D-4F2E-A368-F99EE57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52C0-D2C9-41CD-84E1-5CDC8568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04182-EECF-4668-B966-C5F88BD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A81BF-E525-42F5-BF59-A33D3C8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CA783-999D-4E15-87BE-7EE5CA1B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A2D2-F398-475F-94C0-721BCFE4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49B-9A7E-4412-84BA-7896C182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41C1-8983-488F-885E-9CA49C68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256B7-7F1A-4C55-A1E4-BE5E600E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55679-B965-4227-9BC7-A0D05875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94C91-5680-4F56-A7EE-C13CFC31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3701B-F28D-483C-A8B8-AF613F74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F151-7628-4E57-A35F-7C7408D3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9656B-9792-43A3-B6DE-8C9A8E2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E73F-1538-4F93-891B-2B94E49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B60C9-86A1-4EB1-AB7C-63C969B9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22C3D-0F96-416E-8EB9-D985D75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BB0-D25E-4507-9711-AEA6BB2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3596-9A0A-4B15-94BF-45F25B03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CAF2-016C-49BD-B6CB-6347E0D2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4BA24-CF59-47BB-9FD3-674C235E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B0710-7706-4D9E-B03F-C4F65521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4FC09-A175-4B04-BC66-E0DBAC3E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A6CE-AC7E-48EF-9381-DD910028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120E7-25DC-469C-9B9D-7E13DF2B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FC613-5627-4018-8B1C-2E761695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2EA5B-98AA-42B7-A5F1-56D28CCB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377CE-9BC4-4986-9923-8A399BC7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37F-46C7-4A26-9269-54F859F4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F2C8B-AE92-4F03-B2F8-5FE32BA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E3F43-59B7-40B9-98C4-410E09C4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8975-EA97-4754-84A0-8E009E96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FD1D3-F0E6-4CDD-882C-5D45531A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025D-5C28-411D-BA04-A258B7BA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0328E-8971-43C0-9DEC-DB47EC1E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2C185-82C8-46C2-9F71-2103377B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02296-589C-4850-9165-1C988F5A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32D1-3B2A-48C5-A443-ECDD54E0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DAB85-C120-4867-9FD7-384B79BF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4B0-E652-4B5D-879E-D68534EE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C8795-D25F-472C-93A7-D28685C5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A0051-83D3-4574-B534-4F995DD3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EA348-82BE-4EF2-BC3D-16D03136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97B8D-138E-4D73-8C11-DB8EE72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52125-6935-47DF-83EC-96682F17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BC6EB-784B-4211-AF6B-1D3BBE3A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A508D-9526-4591-B9E4-890D2B90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D01E-A081-47E3-B4F4-E371BB3FC72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ED9C-B33D-4D17-A5D0-6FBB9C198E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3E1E-EE3A-48DF-BE65-F869309857F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5E51-20AC-4526-999B-E7BD8559A9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789C-C993-4D9E-8A7A-30DFFFBBB4B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1290-D1DC-42C2-85E8-6C98737E47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302B-DE81-4886-A146-57CDEC34769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98C-5E42-4943-88B9-4704A36475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A194-E63B-4E27-BD1E-8A3292708CC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DA0E-261A-4B80-B121-BE0ABC21C2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5FBA-0420-487F-A31E-2EB919B698A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039F-F49C-4C72-BC4A-6063CA37B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95BB-E571-435E-884E-E14161F7FBB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0257-423A-4720-A16C-5022AB3FFE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8D0-354C-42AB-9B87-ED445D29F82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3CA4-95B4-4F8F-A1CD-3F1A477A3B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457200" y="1447920"/>
            <a:ext cx="4114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ales Journ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sh Receipts Journ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ales Discou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ales Retur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ales Allowa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redit Memorandu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xpor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5029200" y="1447920"/>
            <a:ext cx="41148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 of Sa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Letter of Cred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ill of Lad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mercial Invo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ra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ght Dra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ime Dra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rade Accepta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907920" y="146160"/>
            <a:ext cx="82425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D:\C21 PowerPoint\Multi_Journal\art for blue\Ch19\Ch19-01a.jpg"/>
          <p:cNvPicPr/>
          <p:nvPr/>
        </p:nvPicPr>
        <p:blipFill>
          <a:blip r:embed="rId3"/>
          <a:srcRect l="8715" t="0" r="0" b="62119"/>
          <a:stretch/>
        </p:blipFill>
        <p:spPr>
          <a:xfrm>
            <a:off x="457200" y="1457280"/>
            <a:ext cx="8153280" cy="242892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5"/>
          <p:cNvSpPr/>
          <p:nvPr/>
        </p:nvSpPr>
        <p:spPr>
          <a:xfrm>
            <a:off x="3962520" y="1981080"/>
            <a:ext cx="1447560" cy="106704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6"/>
          <p:cNvSpPr/>
          <p:nvPr/>
        </p:nvSpPr>
        <p:spPr>
          <a:xfrm>
            <a:off x="4800600" y="1981080"/>
            <a:ext cx="2514600" cy="106704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7"/>
          <p:cNvSpPr/>
          <p:nvPr/>
        </p:nvSpPr>
        <p:spPr>
          <a:xfrm>
            <a:off x="5638680" y="1981080"/>
            <a:ext cx="2438640" cy="106704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2"/>
          <a:stretch/>
        </p:blipFill>
        <p:spPr>
          <a:xfrm>
            <a:off x="-6480" y="-79200"/>
            <a:ext cx="9156960" cy="11523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457200" y="8380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. Sold merchandise on account to Tennis Castle, $1,800.00, plus sales tax, $144.00; total, $1,944.00. Sales Invoice No. 17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457200" y="1676520"/>
            <a:ext cx="281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 Tax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7373880" y="167004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5697360" y="167652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639960" y="1676520"/>
            <a:ext cx="1676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4433760" y="3913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9"/>
          <p:cNvGrpSpPr/>
          <p:nvPr/>
        </p:nvGrpSpPr>
        <p:grpSpPr>
          <a:xfrm>
            <a:off x="3905640" y="4132440"/>
            <a:ext cx="1961280" cy="441360"/>
            <a:chOff x="3905640" y="4132440"/>
            <a:chExt cx="1961280" cy="441360"/>
          </a:xfrm>
        </p:grpSpPr>
        <p:sp>
          <p:nvSpPr>
            <p:cNvPr id="387" name="Text Box 10"/>
            <p:cNvSpPr/>
            <p:nvPr/>
          </p:nvSpPr>
          <p:spPr>
            <a:xfrm>
              <a:off x="3905640" y="420552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11"/>
            <p:cNvSpPr/>
            <p:nvPr/>
          </p:nvSpPr>
          <p:spPr>
            <a:xfrm>
              <a:off x="4267080" y="413244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944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12"/>
          <p:cNvSpPr/>
          <p:nvPr/>
        </p:nvSpPr>
        <p:spPr>
          <a:xfrm>
            <a:off x="496800" y="3913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834480" y="419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94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478800" y="408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4404600" y="408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496800" y="48736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2397960" y="51595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8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2042640" y="504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47"/>
          <p:cNvGrpSpPr/>
          <p:nvPr/>
        </p:nvGrpSpPr>
        <p:grpSpPr>
          <a:xfrm>
            <a:off x="573120" y="3200400"/>
            <a:ext cx="7567560" cy="3268800"/>
            <a:chOff x="573120" y="3200400"/>
            <a:chExt cx="7567560" cy="3268800"/>
          </a:xfrm>
        </p:grpSpPr>
        <p:sp>
          <p:nvSpPr>
            <p:cNvPr id="397" name="Text Box 30"/>
            <p:cNvSpPr/>
            <p:nvPr/>
          </p:nvSpPr>
          <p:spPr>
            <a:xfrm>
              <a:off x="686880" y="3200400"/>
              <a:ext cx="25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GENERAL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31"/>
            <p:cNvSpPr/>
            <p:nvPr/>
          </p:nvSpPr>
          <p:spPr>
            <a:xfrm>
              <a:off x="3657600" y="3206880"/>
              <a:ext cx="448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CCOUNTS RECEIVABLE LED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Group 46"/>
            <p:cNvGrpSpPr/>
            <p:nvPr/>
          </p:nvGrpSpPr>
          <p:grpSpPr>
            <a:xfrm>
              <a:off x="573120" y="3458880"/>
              <a:ext cx="6756480" cy="3010320"/>
              <a:chOff x="573120" y="3458880"/>
              <a:chExt cx="6756480" cy="3010320"/>
            </a:xfrm>
          </p:grpSpPr>
          <p:grpSp>
            <p:nvGrpSpPr>
              <p:cNvPr id="400" name="Group 20"/>
              <p:cNvGrpSpPr/>
              <p:nvPr/>
            </p:nvGrpSpPr>
            <p:grpSpPr>
              <a:xfrm>
                <a:off x="4510080" y="3458880"/>
                <a:ext cx="2819520" cy="1019520"/>
                <a:chOff x="4510080" y="3458880"/>
                <a:chExt cx="2819520" cy="1019520"/>
              </a:xfrm>
            </p:grpSpPr>
            <p:sp>
              <p:nvSpPr>
                <p:cNvPr id="401" name="Text Box 21"/>
                <p:cNvSpPr/>
                <p:nvPr/>
              </p:nvSpPr>
              <p:spPr>
                <a:xfrm>
                  <a:off x="5121000" y="3458880"/>
                  <a:ext cx="15753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ennis Cas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" name="Group 22"/>
                <p:cNvGrpSpPr/>
                <p:nvPr/>
              </p:nvGrpSpPr>
              <p:grpSpPr>
                <a:xfrm>
                  <a:off x="4510080" y="3944880"/>
                  <a:ext cx="2819520" cy="533520"/>
                  <a:chOff x="4510080" y="3944880"/>
                  <a:chExt cx="2819520" cy="533520"/>
                </a:xfrm>
              </p:grpSpPr>
              <p:sp>
                <p:nvSpPr>
                  <p:cNvPr id="403" name="Line 23"/>
                  <p:cNvSpPr/>
                  <p:nvPr/>
                </p:nvSpPr>
                <p:spPr>
                  <a:xfrm>
                    <a:off x="4510080" y="394488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Line 24"/>
                  <p:cNvSpPr/>
                  <p:nvPr/>
                </p:nvSpPr>
                <p:spPr>
                  <a:xfrm>
                    <a:off x="5919840" y="394488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" name="Group 25"/>
              <p:cNvGrpSpPr/>
              <p:nvPr/>
            </p:nvGrpSpPr>
            <p:grpSpPr>
              <a:xfrm>
                <a:off x="573120" y="3458880"/>
                <a:ext cx="2819520" cy="1019520"/>
                <a:chOff x="573120" y="3458880"/>
                <a:chExt cx="2819520" cy="1019520"/>
              </a:xfrm>
            </p:grpSpPr>
            <p:sp>
              <p:nvSpPr>
                <p:cNvPr id="406" name="Text Box 26"/>
                <p:cNvSpPr/>
                <p:nvPr/>
              </p:nvSpPr>
              <p:spPr>
                <a:xfrm>
                  <a:off x="710280" y="3458880"/>
                  <a:ext cx="23097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ccounts Receiv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Group 27"/>
                <p:cNvGrpSpPr/>
                <p:nvPr/>
              </p:nvGrpSpPr>
              <p:grpSpPr>
                <a:xfrm>
                  <a:off x="573120" y="3944880"/>
                  <a:ext cx="2819520" cy="533520"/>
                  <a:chOff x="573120" y="3944880"/>
                  <a:chExt cx="2819520" cy="533520"/>
                </a:xfrm>
              </p:grpSpPr>
              <p:sp>
                <p:nvSpPr>
                  <p:cNvPr id="408" name="Line 28"/>
                  <p:cNvSpPr/>
                  <p:nvPr/>
                </p:nvSpPr>
                <p:spPr>
                  <a:xfrm>
                    <a:off x="573120" y="394488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Line 29"/>
                  <p:cNvSpPr/>
                  <p:nvPr/>
                </p:nvSpPr>
                <p:spPr>
                  <a:xfrm>
                    <a:off x="1982880" y="394488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0" name="Group 32"/>
              <p:cNvGrpSpPr/>
              <p:nvPr/>
            </p:nvGrpSpPr>
            <p:grpSpPr>
              <a:xfrm>
                <a:off x="573120" y="4419360"/>
                <a:ext cx="2819520" cy="1019520"/>
                <a:chOff x="573120" y="4419360"/>
                <a:chExt cx="2819520" cy="1019520"/>
              </a:xfrm>
            </p:grpSpPr>
            <p:sp>
              <p:nvSpPr>
                <p:cNvPr id="411" name="Text Box 33"/>
                <p:cNvSpPr/>
                <p:nvPr/>
              </p:nvSpPr>
              <p:spPr>
                <a:xfrm>
                  <a:off x="1490040" y="4419360"/>
                  <a:ext cx="75060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Group 34"/>
                <p:cNvGrpSpPr/>
                <p:nvPr/>
              </p:nvGrpSpPr>
              <p:grpSpPr>
                <a:xfrm>
                  <a:off x="573120" y="4905360"/>
                  <a:ext cx="2819520" cy="533520"/>
                  <a:chOff x="573120" y="4905360"/>
                  <a:chExt cx="2819520" cy="533520"/>
                </a:xfrm>
              </p:grpSpPr>
              <p:sp>
                <p:nvSpPr>
                  <p:cNvPr id="413" name="Line 35"/>
                  <p:cNvSpPr/>
                  <p:nvPr/>
                </p:nvSpPr>
                <p:spPr>
                  <a:xfrm>
                    <a:off x="573120" y="490536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Line 36"/>
                  <p:cNvSpPr/>
                  <p:nvPr/>
                </p:nvSpPr>
                <p:spPr>
                  <a:xfrm>
                    <a:off x="1982880" y="490536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Group 38"/>
              <p:cNvGrpSpPr/>
              <p:nvPr/>
            </p:nvGrpSpPr>
            <p:grpSpPr>
              <a:xfrm>
                <a:off x="574560" y="5449680"/>
                <a:ext cx="2819520" cy="1019520"/>
                <a:chOff x="574560" y="5449680"/>
                <a:chExt cx="2819520" cy="1019520"/>
              </a:xfrm>
            </p:grpSpPr>
            <p:sp>
              <p:nvSpPr>
                <p:cNvPr id="416" name="Text Box 39"/>
                <p:cNvSpPr/>
                <p:nvPr/>
              </p:nvSpPr>
              <p:spPr>
                <a:xfrm>
                  <a:off x="825480" y="5449680"/>
                  <a:ext cx="208260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ales Tax Pay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Group 40"/>
                <p:cNvGrpSpPr/>
                <p:nvPr/>
              </p:nvGrpSpPr>
              <p:grpSpPr>
                <a:xfrm>
                  <a:off x="574560" y="5935680"/>
                  <a:ext cx="2819520" cy="533520"/>
                  <a:chOff x="574560" y="5935680"/>
                  <a:chExt cx="2819520" cy="533520"/>
                </a:xfrm>
              </p:grpSpPr>
              <p:sp>
                <p:nvSpPr>
                  <p:cNvPr id="418" name="Line 41"/>
                  <p:cNvSpPr/>
                  <p:nvPr/>
                </p:nvSpPr>
                <p:spPr>
                  <a:xfrm>
                    <a:off x="574560" y="593568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Line 42"/>
                  <p:cNvSpPr/>
                  <p:nvPr/>
                </p:nvSpPr>
                <p:spPr>
                  <a:xfrm>
                    <a:off x="1984320" y="593568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0" name="Text Box 43"/>
          <p:cNvSpPr/>
          <p:nvPr/>
        </p:nvSpPr>
        <p:spPr>
          <a:xfrm>
            <a:off x="533520" y="5940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2625120" y="6226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5"/>
          <p:cNvSpPr/>
          <p:nvPr/>
        </p:nvSpPr>
        <p:spPr>
          <a:xfrm>
            <a:off x="2079000" y="6108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D:\C21 PowerPoint\Multi_Journal\art for blue\Ch19\Ch19-01b.jpg"/>
          <p:cNvPicPr/>
          <p:nvPr/>
        </p:nvPicPr>
        <p:blipFill>
          <a:blip r:embed="rId3"/>
          <a:srcRect l="25495" t="0" r="0" b="81577"/>
          <a:stretch/>
        </p:blipFill>
        <p:spPr>
          <a:xfrm>
            <a:off x="439560" y="1143000"/>
            <a:ext cx="8170920" cy="1957320"/>
          </a:xfrm>
          <a:prstGeom prst="rect">
            <a:avLst/>
          </a:prstGeom>
          <a:ln w="0">
            <a:noFill/>
          </a:ln>
        </p:spPr>
      </p:pic>
      <p:sp>
        <p:nvSpPr>
          <p:cNvPr id="425" name="Oval 6"/>
          <p:cNvSpPr/>
          <p:nvPr/>
        </p:nvSpPr>
        <p:spPr>
          <a:xfrm>
            <a:off x="632448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380880" y="1828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5105520" y="26668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2133720" y="26668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514440" y="40910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invoi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514440" y="445464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Amount Plus Sales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514440" y="37180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514440" y="481644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514440" y="518148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Tax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7"/>
          <p:cNvSpPr/>
          <p:nvPr/>
        </p:nvSpPr>
        <p:spPr>
          <a:xfrm>
            <a:off x="769608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2"/>
          <a:stretch/>
        </p:blipFill>
        <p:spPr>
          <a:xfrm>
            <a:off x="450720" y="133200"/>
            <a:ext cx="8242560" cy="1062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D:\C21 PowerPoint\Multi_Journal\art for blue\Ch19\Ch19-01c.jpg"/>
          <p:cNvPicPr/>
          <p:nvPr/>
        </p:nvPicPr>
        <p:blipFill>
          <a:blip r:embed="rId3"/>
          <a:srcRect l="24532" t="0" r="0" b="65797"/>
          <a:stretch/>
        </p:blipFill>
        <p:spPr>
          <a:xfrm>
            <a:off x="369720" y="114300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514440" y="582768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514440" y="508968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191120" y="508788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514440" y="54547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4191120" y="5450040"/>
            <a:ext cx="37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23"/>
          <p:cNvGrpSpPr/>
          <p:nvPr/>
        </p:nvGrpSpPr>
        <p:grpSpPr>
          <a:xfrm>
            <a:off x="1177920" y="2666880"/>
            <a:ext cx="533520" cy="1828800"/>
            <a:chOff x="1177920" y="2666880"/>
            <a:chExt cx="533520" cy="1828800"/>
          </a:xfrm>
        </p:grpSpPr>
        <p:sp>
          <p:nvSpPr>
            <p:cNvPr id="445" name="Line 17"/>
            <p:cNvSpPr/>
            <p:nvPr/>
          </p:nvSpPr>
          <p:spPr>
            <a:xfrm>
              <a:off x="1447920" y="2666880"/>
              <a:ext cx="0" cy="18288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6"/>
            <p:cNvSpPr/>
            <p:nvPr/>
          </p:nvSpPr>
          <p:spPr>
            <a:xfrm>
              <a:off x="1177920" y="289548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4"/>
          <p:cNvGrpSpPr/>
          <p:nvPr/>
        </p:nvGrpSpPr>
        <p:grpSpPr>
          <a:xfrm>
            <a:off x="3048120" y="1371600"/>
            <a:ext cx="4419360" cy="3352680"/>
            <a:chOff x="3048120" y="1371600"/>
            <a:chExt cx="4419360" cy="3352680"/>
          </a:xfrm>
        </p:grpSpPr>
        <p:sp>
          <p:nvSpPr>
            <p:cNvPr id="448" name="Freeform 18"/>
            <p:cNvSpPr/>
            <p:nvPr/>
          </p:nvSpPr>
          <p:spPr>
            <a:xfrm>
              <a:off x="3429000" y="1447920"/>
              <a:ext cx="4038480" cy="32763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Oval 9"/>
            <p:cNvSpPr/>
            <p:nvPr/>
          </p:nvSpPr>
          <p:spPr>
            <a:xfrm>
              <a:off x="3048120" y="13716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Group 25"/>
          <p:cNvGrpSpPr/>
          <p:nvPr/>
        </p:nvGrpSpPr>
        <p:grpSpPr>
          <a:xfrm>
            <a:off x="5310360" y="2666880"/>
            <a:ext cx="533160" cy="1600200"/>
            <a:chOff x="5310360" y="2666880"/>
            <a:chExt cx="533160" cy="1600200"/>
          </a:xfrm>
        </p:grpSpPr>
        <p:sp>
          <p:nvSpPr>
            <p:cNvPr id="451" name="Line 20"/>
            <p:cNvSpPr/>
            <p:nvPr/>
          </p:nvSpPr>
          <p:spPr>
            <a:xfrm>
              <a:off x="5562720" y="2666880"/>
              <a:ext cx="0" cy="1600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5310360" y="31240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26"/>
          <p:cNvGrpSpPr/>
          <p:nvPr/>
        </p:nvGrpSpPr>
        <p:grpSpPr>
          <a:xfrm>
            <a:off x="4495320" y="2546280"/>
            <a:ext cx="3581640" cy="959040"/>
            <a:chOff x="4495320" y="2546280"/>
            <a:chExt cx="3581640" cy="959040"/>
          </a:xfrm>
        </p:grpSpPr>
        <p:sp>
          <p:nvSpPr>
            <p:cNvPr id="454" name="Line 22"/>
            <p:cNvSpPr/>
            <p:nvPr/>
          </p:nvSpPr>
          <p:spPr>
            <a:xfrm flipH="1" flipV="1">
              <a:off x="4495320" y="2546280"/>
              <a:ext cx="3581640" cy="959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Oval 5"/>
            <p:cNvSpPr/>
            <p:nvPr/>
          </p:nvSpPr>
          <p:spPr>
            <a:xfrm>
              <a:off x="6477120" y="28954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Oval 8"/>
          <p:cNvSpPr/>
          <p:nvPr/>
        </p:nvSpPr>
        <p:spPr>
          <a:xfrm>
            <a:off x="8381880" y="44197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2"/>
          <a:stretch/>
        </p:blipFill>
        <p:spPr>
          <a:xfrm>
            <a:off x="450720" y="42840"/>
            <a:ext cx="8242560" cy="1127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D:\C21 PowerPoint\Multi_Journal\art for blue\Ch19\Ch19-01d.jpg"/>
          <p:cNvPicPr/>
          <p:nvPr/>
        </p:nvPicPr>
        <p:blipFill>
          <a:blip r:embed="rId3"/>
          <a:srcRect l="15772" t="0" r="0" b="34505"/>
          <a:stretch/>
        </p:blipFill>
        <p:spPr>
          <a:xfrm>
            <a:off x="457200" y="1143000"/>
            <a:ext cx="4883040" cy="5562720"/>
          </a:xfrm>
          <a:prstGeom prst="rect">
            <a:avLst/>
          </a:prstGeom>
          <a:ln w="0">
            <a:noFill/>
          </a:ln>
        </p:spPr>
      </p:pic>
      <p:sp>
        <p:nvSpPr>
          <p:cNvPr id="459" name="Oval 7"/>
          <p:cNvSpPr/>
          <p:nvPr/>
        </p:nvSpPr>
        <p:spPr>
          <a:xfrm>
            <a:off x="1143000" y="22860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8"/>
          <p:cNvSpPr/>
          <p:nvPr/>
        </p:nvSpPr>
        <p:spPr>
          <a:xfrm>
            <a:off x="2279520" y="19987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248520" y="195732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6248520" y="12193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ingl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248520" y="2320920"/>
            <a:ext cx="17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6248520" y="15843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6248520" y="2682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6248520" y="30481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ach Special Colum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6248520" y="3716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6248520" y="4378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40"/>
          <p:cNvGrpSpPr/>
          <p:nvPr/>
        </p:nvGrpSpPr>
        <p:grpSpPr>
          <a:xfrm>
            <a:off x="380880" y="1998720"/>
            <a:ext cx="838440" cy="4689360"/>
            <a:chOff x="380880" y="1998720"/>
            <a:chExt cx="838440" cy="4689360"/>
          </a:xfrm>
        </p:grpSpPr>
        <p:sp>
          <p:nvSpPr>
            <p:cNvPr id="470" name="Oval 9"/>
            <p:cNvSpPr/>
            <p:nvPr/>
          </p:nvSpPr>
          <p:spPr>
            <a:xfrm>
              <a:off x="380880" y="19987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Oval 23"/>
            <p:cNvSpPr/>
            <p:nvPr/>
          </p:nvSpPr>
          <p:spPr>
            <a:xfrm>
              <a:off x="380880" y="35989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24"/>
            <p:cNvSpPr/>
            <p:nvPr/>
          </p:nvSpPr>
          <p:spPr>
            <a:xfrm>
              <a:off x="380880" y="49705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Oval 25"/>
            <p:cNvSpPr/>
            <p:nvPr/>
          </p:nvSpPr>
          <p:spPr>
            <a:xfrm>
              <a:off x="838080" y="630720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42"/>
          <p:cNvGrpSpPr/>
          <p:nvPr/>
        </p:nvGrpSpPr>
        <p:grpSpPr>
          <a:xfrm>
            <a:off x="3048120" y="2438280"/>
            <a:ext cx="1600200" cy="381240"/>
            <a:chOff x="3048120" y="2438280"/>
            <a:chExt cx="1600200" cy="381240"/>
          </a:xfrm>
        </p:grpSpPr>
        <p:sp>
          <p:nvSpPr>
            <p:cNvPr id="475" name="Oval 18"/>
            <p:cNvSpPr/>
            <p:nvPr/>
          </p:nvSpPr>
          <p:spPr>
            <a:xfrm>
              <a:off x="3048120" y="24382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31"/>
            <p:cNvSpPr/>
            <p:nvPr/>
          </p:nvSpPr>
          <p:spPr>
            <a:xfrm>
              <a:off x="3581280" y="24382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32"/>
            <p:cNvSpPr/>
            <p:nvPr/>
          </p:nvSpPr>
          <p:spPr>
            <a:xfrm>
              <a:off x="4267080" y="24382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Group 37"/>
          <p:cNvGrpSpPr/>
          <p:nvPr/>
        </p:nvGrpSpPr>
        <p:grpSpPr>
          <a:xfrm>
            <a:off x="4684680" y="2209680"/>
            <a:ext cx="1030320" cy="381240"/>
            <a:chOff x="4684680" y="2209680"/>
            <a:chExt cx="1030320" cy="381240"/>
          </a:xfrm>
        </p:grpSpPr>
        <p:sp>
          <p:nvSpPr>
            <p:cNvPr id="479" name="Line 35"/>
            <p:cNvSpPr/>
            <p:nvPr/>
          </p:nvSpPr>
          <p:spPr>
            <a:xfrm>
              <a:off x="4684680" y="2286000"/>
              <a:ext cx="8780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Oval 5"/>
            <p:cNvSpPr/>
            <p:nvPr/>
          </p:nvSpPr>
          <p:spPr>
            <a:xfrm>
              <a:off x="5334120" y="22096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36"/>
          <p:cNvGrpSpPr/>
          <p:nvPr/>
        </p:nvGrpSpPr>
        <p:grpSpPr>
          <a:xfrm>
            <a:off x="4689360" y="1828800"/>
            <a:ext cx="644760" cy="380880"/>
            <a:chOff x="4689360" y="1828800"/>
            <a:chExt cx="644760" cy="380880"/>
          </a:xfrm>
        </p:grpSpPr>
        <p:sp>
          <p:nvSpPr>
            <p:cNvPr id="482" name="Line 34"/>
            <p:cNvSpPr/>
            <p:nvPr/>
          </p:nvSpPr>
          <p:spPr>
            <a:xfrm>
              <a:off x="4689360" y="2116080"/>
              <a:ext cx="5335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6"/>
            <p:cNvSpPr/>
            <p:nvPr/>
          </p:nvSpPr>
          <p:spPr>
            <a:xfrm>
              <a:off x="4952880" y="182880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45"/>
          <p:cNvGrpSpPr/>
          <p:nvPr/>
        </p:nvGrpSpPr>
        <p:grpSpPr>
          <a:xfrm>
            <a:off x="1447920" y="1143000"/>
            <a:ext cx="3504960" cy="5562720"/>
            <a:chOff x="1447920" y="1143000"/>
            <a:chExt cx="3504960" cy="5562720"/>
          </a:xfrm>
        </p:grpSpPr>
        <p:sp>
          <p:nvSpPr>
            <p:cNvPr id="485" name="Oval 29"/>
            <p:cNvSpPr/>
            <p:nvPr/>
          </p:nvSpPr>
          <p:spPr>
            <a:xfrm>
              <a:off x="1752480" y="49528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30"/>
            <p:cNvSpPr/>
            <p:nvPr/>
          </p:nvSpPr>
          <p:spPr>
            <a:xfrm>
              <a:off x="1981080" y="63244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Oval 43"/>
            <p:cNvSpPr/>
            <p:nvPr/>
          </p:nvSpPr>
          <p:spPr>
            <a:xfrm>
              <a:off x="1447920" y="35812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Oval 44"/>
            <p:cNvSpPr/>
            <p:nvPr/>
          </p:nvSpPr>
          <p:spPr>
            <a:xfrm>
              <a:off x="4572000" y="11430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48"/>
          <p:cNvGrpSpPr/>
          <p:nvPr/>
        </p:nvGrpSpPr>
        <p:grpSpPr>
          <a:xfrm>
            <a:off x="2437920" y="2286000"/>
            <a:ext cx="873720" cy="4419720"/>
            <a:chOff x="2437920" y="2286000"/>
            <a:chExt cx="873720" cy="4419720"/>
          </a:xfrm>
        </p:grpSpPr>
        <p:grpSp>
          <p:nvGrpSpPr>
            <p:cNvPr id="490" name="Group 39"/>
            <p:cNvGrpSpPr/>
            <p:nvPr/>
          </p:nvGrpSpPr>
          <p:grpSpPr>
            <a:xfrm>
              <a:off x="2437920" y="2286000"/>
              <a:ext cx="381600" cy="1447920"/>
              <a:chOff x="2437920" y="2286000"/>
              <a:chExt cx="381600" cy="1447920"/>
            </a:xfrm>
          </p:grpSpPr>
          <p:sp>
            <p:nvSpPr>
              <p:cNvPr id="491" name="Line 26"/>
              <p:cNvSpPr/>
              <p:nvPr/>
            </p:nvSpPr>
            <p:spPr>
              <a:xfrm flipH="1">
                <a:off x="2437920" y="2286000"/>
                <a:ext cx="381240" cy="1447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6"/>
              <p:cNvSpPr/>
              <p:nvPr/>
            </p:nvSpPr>
            <p:spPr>
              <a:xfrm>
                <a:off x="2438280" y="2743200"/>
                <a:ext cx="381240" cy="38088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def5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Oval 46"/>
            <p:cNvSpPr/>
            <p:nvPr/>
          </p:nvSpPr>
          <p:spPr>
            <a:xfrm>
              <a:off x="2666880" y="49528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Oval 47"/>
            <p:cNvSpPr/>
            <p:nvPr/>
          </p:nvSpPr>
          <p:spPr>
            <a:xfrm>
              <a:off x="2930400" y="632448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7:02:16Z</dcterms:created>
  <dc:creator>Mary Colleen McLaughlin</dc:creator>
  <dc:description/>
  <dc:language>en-US</dc:language>
  <cp:lastModifiedBy>David Combs</cp:lastModifiedBy>
  <cp:lastPrinted>1999-04-08T20:29:04Z</cp:lastPrinted>
  <dcterms:modified xsi:type="dcterms:W3CDTF">2012-09-26T12:50:10Z</dcterms:modified>
  <cp:revision>63</cp:revision>
  <dc:subject/>
  <dc:title>ADJUSTING ENTRY FOR SUPPLIES</dc:title>
</cp:coreProperties>
</file>